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BF9E7D-A9DC-49E9-9863-147F36A9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DBB4D2-25B3-496C-9BF6-6F87510B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671D2B-FBD9-48D2-92A6-79119C1D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7A83E4-2FA6-4DC7-BE4E-102EC5BF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7D70BA-506A-4FFD-B41F-CEAA1DF6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860742-C78C-4C1A-8F65-43561D78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734D02-BD61-49ED-BC55-DEA69FDB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B75C9E-A89B-4D94-B4D3-78550178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0A94AB-464B-4B6E-B951-5C532930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40A076-65D5-4181-9EE6-7CFE4444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E8C1BD-2D76-4681-B495-4C6EB069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0220B4-B3BF-4B16-813A-05099869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C8D9DA-0628-465E-8E0A-4390B380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5831C0-CE4E-46F3-8B2C-05CBA160F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F1A05D-B9B0-49B0-9C96-A3BB3C32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DF11EF-784C-409F-8DAD-7EFC2EE0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6D2CBF-9231-468A-A3D7-0235CA26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8FBA2E-645F-4807-B574-855C7E0C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7D7F1D-624B-40D9-890D-A15B67B0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0B8260-E509-4DAD-8B37-B406F90C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00DEC1-AFDE-4B64-B008-6A5508D3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56E276-6884-4C3B-8E56-4690AB30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F6AD21-D9BB-4A19-A736-14518E50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A84F89-217F-42D1-B475-3ECEF46B8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2D6B2C-4A8D-4D47-9427-DBC3789A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23001E-5DC0-4C7B-9C8C-BEE6BA16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E663A5-6FD4-4AEB-9F1E-DDF04E76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2ED-CAA7-493A-8DD8-B4E39E9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ED7-D431-4185-91FE-3C43E14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9FE-B583-429B-8AA1-53AAB865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F54-4BA8-4B9A-8407-06EB3CD4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A4E-7844-4BA8-9897-101C73D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867-E8F9-4BFA-85A2-E90CE909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56D-FAAA-483C-87F9-09956424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023-CE62-4734-895B-B1940120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453-52E9-4CF2-A747-307A347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173-B1BD-4942-9B02-7FAF70E3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690-F9C7-4E7F-A3DE-27DB2C1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82A-B30D-4DC1-BDD7-98B50802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489C-BBB2-4F3B-8782-E83421EC1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veuse"/>
              </a:rPr>
              <a:t>Evolu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5562720"/>
            <a:ext cx="3124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ue Highway"/>
              </a:rPr>
              <a:t>Mr. O’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ue Highway"/>
              </a:rPr>
              <a:t>Jefferson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Tendency Toward Per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715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nnate tendency toward complexity and per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ontinually changing and acquiring features that help them live more successfully in thei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Example: 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ncestors of birds acquired an urge to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over many generations, birds kept trying to fly, &amp; their wings increased in size and became more suited to f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cestor of birds"/>
          <p:cNvPicPr/>
          <p:nvPr/>
        </p:nvPicPr>
        <p:blipFill>
          <a:blip r:embed="rId1"/>
          <a:stretch/>
        </p:blipFill>
        <p:spPr>
          <a:xfrm>
            <a:off x="4724280" y="2209680"/>
            <a:ext cx="441972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Selective Use Or Dis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Proposal that organisms could alter the size or shape of particular organs by using their bodies in new wa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Example:  Bi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By trying to use their front limbs for flying, birds could eventually transform those limbs into w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If winged animal did not use wings, the wings would decrease in size over generation and finally disappe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Inheritance of Acquired Tra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Acquired characteristics could b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longer legs or fluffier feather, would be passed on to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f you spent much of your life lifting weights to build muscles, your children would inherit big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Problems With Lamarck’s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Incorrect in several wa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Did not know how traits are inherited (via genetics/D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Organism’s behavior has no effect on its inheritable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Darwin’s Explanation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Natural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differences among individuals of the sam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Artifici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ture provides variation among different organisms, and humans select those variations that they find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lso known as selective breeding, done by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determine which individuals to use for breeding based on the natural variation that they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only the largest hogs, the fastest horses, or the cows that gave the most milk are selected to produc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rtificial selection in peppers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veuse"/>
              </a:rPr>
              <a:t>Can Nature Select Var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truggle for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embers of each species compete regularly to obtain food, living space, and other necessitat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edators that are faster or have a better way of catching prey will in turn catch more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ey that are faster, better camouflaged, or better protected can avoid being c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The ability of an individual to survive and reproduce in its specif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sult of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ny inherited characteristic that increases an organism’s chance of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Survival of the Fit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ion"/>
          <p:cNvPicPr/>
          <p:nvPr/>
        </p:nvPicPr>
        <p:blipFill>
          <a:blip r:embed="rId1"/>
          <a:stretch/>
        </p:blipFill>
        <p:spPr>
          <a:xfrm>
            <a:off x="380880" y="1676520"/>
            <a:ext cx="4724640" cy="44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omestic cat"/>
          <p:cNvPicPr/>
          <p:nvPr/>
        </p:nvPicPr>
        <p:blipFill>
          <a:blip r:embed="rId2"/>
          <a:srcRect l="15153" t="8353" r="9094" b="0"/>
          <a:stretch/>
        </p:blipFill>
        <p:spPr>
          <a:xfrm>
            <a:off x="6172200" y="4495680"/>
            <a:ext cx="190512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334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7200" y="2209680"/>
            <a:ext cx="792468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100" spc="-1" strike="noStrike">
                <a:solidFill>
                  <a:srgbClr val="ff0000"/>
                </a:solidFill>
                <a:latin typeface="HGSSoeiKakupoptai"/>
                <a:ea typeface="HGSSoeiKakupoptai"/>
              </a:rPr>
              <a:t>NOT</a:t>
            </a:r>
            <a:endParaRPr b="0" lang="en-US" sz="2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veuse"/>
              </a:rPr>
              <a:t>Natural selection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Baveuse"/>
              </a:rPr>
              <a:t>(Survival of the Fitte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ndividuals that are better suited to their environment – that is, with high levels of fitness – survive and reproduce most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Results – changes in the inherited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changes increase a species’ fitness in it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Descent with Mod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ach living species has descended, with changes, from other speci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mplies:  all living organisms are related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57200" y="4114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Common Des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57200" y="51814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All species – living and extinct – were derived from common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5"/>
          <p:cNvSpPr/>
          <p:nvPr/>
        </p:nvSpPr>
        <p:spPr>
          <a:xfrm>
            <a:off x="4038480" y="3124080"/>
            <a:ext cx="609840" cy="106704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What is Evolu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Evolution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ang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the process by which modern organisms have descended from ancient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 well supported testable explanation of phenomena that have occurred in the natur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Similar Body Stru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447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mong the body parts of animals with backbones (verteb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omologous body structures.gif"/>
          <p:cNvPicPr/>
          <p:nvPr/>
        </p:nvPicPr>
        <p:blipFill>
          <a:blip r:embed="rId1"/>
          <a:stretch/>
        </p:blipFill>
        <p:spPr>
          <a:xfrm>
            <a:off x="2514600" y="2209680"/>
            <a:ext cx="373392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380880" y="54100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The limbs differ in form and function, but they are all constructed from the same basic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What Else Causes Chan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ny change in a sequenc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Movement of individuals betwee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How characteristics move throughout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anges occur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istakes in DNA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iation or chemicals i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hiroshima.jpg"/>
          <p:cNvPicPr/>
          <p:nvPr/>
        </p:nvPicPr>
        <p:blipFill>
          <a:blip r:embed="rId1"/>
          <a:stretch/>
        </p:blipFill>
        <p:spPr>
          <a:xfrm>
            <a:off x="228600" y="2362320"/>
            <a:ext cx="4191120" cy="261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iroshima 2.jpg"/>
          <p:cNvPicPr/>
          <p:nvPr/>
        </p:nvPicPr>
        <p:blipFill>
          <a:blip r:embed="rId2"/>
          <a:stretch/>
        </p:blipFill>
        <p:spPr>
          <a:xfrm>
            <a:off x="4724280" y="2362320"/>
            <a:ext cx="4210200" cy="2692440"/>
          </a:xfrm>
          <a:prstGeom prst="rect">
            <a:avLst/>
          </a:prstGeom>
          <a:ln w="0">
            <a:noFill/>
          </a:ln>
        </p:spPr>
      </p:pic>
      <p:sp>
        <p:nvSpPr>
          <p:cNvPr id="103" name="Content Placeholder 2"/>
          <p:cNvSpPr/>
          <p:nvPr/>
        </p:nvSpPr>
        <p:spPr>
          <a:xfrm>
            <a:off x="304920" y="50292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  <a:ea typeface="Arial"/>
              </a:rPr>
              <a:t>Mutations do not always affect an organisms phenotype (visible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  <a:ea typeface="Arial"/>
              </a:rPr>
              <a:t>Some affect an organisms ability to survive and reproduce in it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veuse"/>
              </a:rPr>
              <a:t>How could a mutation affect a population of d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Mistake in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babies still-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lack of body part or correct development of a vital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emicals in the environment (water 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kills off weaker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ales/females become infe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babies still-born or born with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ange in ability to survive and 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change in coloring of 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different mating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lso referred to as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ovement of individuals into an area occupied by an existin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ovement of individuals out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Summing Junction 3"/>
          <p:cNvSpPr/>
          <p:nvPr/>
        </p:nvSpPr>
        <p:spPr>
          <a:xfrm>
            <a:off x="7620120" y="27432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Summing Junction 4"/>
          <p:cNvSpPr/>
          <p:nvPr/>
        </p:nvSpPr>
        <p:spPr>
          <a:xfrm>
            <a:off x="6858000" y="30481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Summing Junction 5"/>
          <p:cNvSpPr/>
          <p:nvPr/>
        </p:nvSpPr>
        <p:spPr>
          <a:xfrm>
            <a:off x="6477120" y="266688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Summing Junction 6"/>
          <p:cNvSpPr/>
          <p:nvPr/>
        </p:nvSpPr>
        <p:spPr>
          <a:xfrm>
            <a:off x="6400800" y="35812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Summing Junction 7"/>
          <p:cNvSpPr/>
          <p:nvPr/>
        </p:nvSpPr>
        <p:spPr>
          <a:xfrm>
            <a:off x="5943600" y="28195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owchart: Summing Junction 8"/>
          <p:cNvSpPr/>
          <p:nvPr/>
        </p:nvSpPr>
        <p:spPr>
          <a:xfrm>
            <a:off x="5334120" y="32004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lowchart: Summing Junction 9"/>
          <p:cNvSpPr/>
          <p:nvPr/>
        </p:nvSpPr>
        <p:spPr>
          <a:xfrm>
            <a:off x="8001000" y="33526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Summing Junction 10"/>
          <p:cNvSpPr/>
          <p:nvPr/>
        </p:nvSpPr>
        <p:spPr>
          <a:xfrm>
            <a:off x="7391520" y="36576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lowchart: Or 11"/>
          <p:cNvSpPr/>
          <p:nvPr/>
        </p:nvSpPr>
        <p:spPr>
          <a:xfrm>
            <a:off x="3733920" y="3200400"/>
            <a:ext cx="30456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owchart: Or 12"/>
          <p:cNvSpPr/>
          <p:nvPr/>
        </p:nvSpPr>
        <p:spPr>
          <a:xfrm>
            <a:off x="990720" y="3429000"/>
            <a:ext cx="30456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owchart: Or 13"/>
          <p:cNvSpPr/>
          <p:nvPr/>
        </p:nvSpPr>
        <p:spPr>
          <a:xfrm>
            <a:off x="1219320" y="2971800"/>
            <a:ext cx="30456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owchart: Or 14"/>
          <p:cNvSpPr/>
          <p:nvPr/>
        </p:nvSpPr>
        <p:spPr>
          <a:xfrm>
            <a:off x="3886200" y="3809880"/>
            <a:ext cx="30492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owchart: Or 15"/>
          <p:cNvSpPr/>
          <p:nvPr/>
        </p:nvSpPr>
        <p:spPr>
          <a:xfrm>
            <a:off x="609480" y="2819520"/>
            <a:ext cx="304920" cy="30456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Or 16"/>
          <p:cNvSpPr/>
          <p:nvPr/>
        </p:nvSpPr>
        <p:spPr>
          <a:xfrm>
            <a:off x="1676520" y="3505320"/>
            <a:ext cx="304560" cy="30456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Arrow 17"/>
          <p:cNvSpPr/>
          <p:nvPr/>
        </p:nvSpPr>
        <p:spPr>
          <a:xfrm>
            <a:off x="4114800" y="327672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lowchart: Summing Junction 18"/>
          <p:cNvSpPr/>
          <p:nvPr/>
        </p:nvSpPr>
        <p:spPr>
          <a:xfrm>
            <a:off x="6477120" y="6019920"/>
            <a:ext cx="30456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lowchart: Summing Junction 19"/>
          <p:cNvSpPr/>
          <p:nvPr/>
        </p:nvSpPr>
        <p:spPr>
          <a:xfrm>
            <a:off x="6781680" y="548640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lowchart: Summing Junction 20"/>
          <p:cNvSpPr/>
          <p:nvPr/>
        </p:nvSpPr>
        <p:spPr>
          <a:xfrm>
            <a:off x="5943600" y="63244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Summing Junction 21"/>
          <p:cNvSpPr/>
          <p:nvPr/>
        </p:nvSpPr>
        <p:spPr>
          <a:xfrm>
            <a:off x="6019920" y="5334120"/>
            <a:ext cx="30456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owchart: Summing Junction 22"/>
          <p:cNvSpPr/>
          <p:nvPr/>
        </p:nvSpPr>
        <p:spPr>
          <a:xfrm>
            <a:off x="5638680" y="57913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lowchart: Or 23"/>
          <p:cNvSpPr/>
          <p:nvPr/>
        </p:nvSpPr>
        <p:spPr>
          <a:xfrm>
            <a:off x="1371600" y="3809880"/>
            <a:ext cx="30492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lowchart: Or 24"/>
          <p:cNvSpPr/>
          <p:nvPr/>
        </p:nvSpPr>
        <p:spPr>
          <a:xfrm>
            <a:off x="1752480" y="2895480"/>
            <a:ext cx="30492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Summing Junction 25"/>
          <p:cNvSpPr/>
          <p:nvPr/>
        </p:nvSpPr>
        <p:spPr>
          <a:xfrm>
            <a:off x="7924680" y="62485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Summing Junction 26"/>
          <p:cNvSpPr/>
          <p:nvPr/>
        </p:nvSpPr>
        <p:spPr>
          <a:xfrm>
            <a:off x="7238880" y="60199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Summing Junction 27"/>
          <p:cNvSpPr/>
          <p:nvPr/>
        </p:nvSpPr>
        <p:spPr>
          <a:xfrm>
            <a:off x="7696080" y="54100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Summing Junction 28"/>
          <p:cNvSpPr/>
          <p:nvPr/>
        </p:nvSpPr>
        <p:spPr>
          <a:xfrm>
            <a:off x="3276720" y="541008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Summing Junction 29"/>
          <p:cNvSpPr/>
          <p:nvPr/>
        </p:nvSpPr>
        <p:spPr>
          <a:xfrm>
            <a:off x="3276720" y="61722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Arrow 30"/>
          <p:cNvSpPr/>
          <p:nvPr/>
        </p:nvSpPr>
        <p:spPr>
          <a:xfrm>
            <a:off x="2286000" y="563868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How could migration affect an existing 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5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oss of a specific foo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oss of mates or increased number of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oss of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ncreased foo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vulnerability to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Genetic Dri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may occur when a small group of individuals colonizes a new habit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occurs by chance:  the chance that particular characteristics were in one or more of the founding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Char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Darw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He made numerous observations and collected evidence that led him to propose a revolutiona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lue Highway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 about the way life chang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Preserved remains of ancient organisms, call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Some resembled organism that were still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Most influential islands were the Galapagos Islands west of South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The Galapagos Isla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slands were close together but had very different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ome had sparse vegetation, others had greater rainfall and a rich veg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Because of these differences there were variations in the organisms that Darwin journaled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ortoise 1"/>
          <p:cNvPicPr/>
          <p:nvPr/>
        </p:nvPicPr>
        <p:blipFill>
          <a:blip r:embed="rId1"/>
          <a:stretch/>
        </p:blipFill>
        <p:spPr>
          <a:xfrm>
            <a:off x="380880" y="4191120"/>
            <a:ext cx="2971800" cy="190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ortoise 2"/>
          <p:cNvPicPr/>
          <p:nvPr/>
        </p:nvPicPr>
        <p:blipFill>
          <a:blip r:embed="rId2"/>
          <a:stretch/>
        </p:blipFill>
        <p:spPr>
          <a:xfrm>
            <a:off x="3505320" y="419112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tortoise 3"/>
          <p:cNvPicPr/>
          <p:nvPr/>
        </p:nvPicPr>
        <p:blipFill>
          <a:blip r:embed="rId3"/>
          <a:stretch/>
        </p:blipFill>
        <p:spPr>
          <a:xfrm>
            <a:off x="6172200" y="4038480"/>
            <a:ext cx="2476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Meantim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fossil records were challenging the traditional view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some scientists even adjusted their beliefs to include not one but several periods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ach of these periods, they contended, was preceded by a catastrophic event that killed off many form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Geological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ayers of rock form very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ome rocks are moved up by forces beneath Earth’s surface like the mountain ranges that were pushed up from the sea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this helps explains why fossils of marine animals  can be found many feet above the present sea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ome are buried (dinosaur foss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rocks, mountains and valleys are then shaped by a variety of natural fo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in, heat, and cold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most of these geological processes operate extremely slowly, often over millions of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eological evolution"/>
          <p:cNvPicPr/>
          <p:nvPr/>
        </p:nvPicPr>
        <p:blipFill>
          <a:blip r:embed="rId1"/>
          <a:srcRect l="12505" t="0" r="4166" b="0"/>
          <a:stretch/>
        </p:blipFill>
        <p:spPr>
          <a:xfrm>
            <a:off x="0" y="457200"/>
            <a:ext cx="9144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geological evolution 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ere there any theories before Darw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Jean-Baptiste Lamar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One of the first scientists to recognize that living things have changed over time, species were descended form other species, and organisms adapt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Tendency Toward Per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Selective Use or Dis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xample: 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2:27:22Z</dcterms:created>
  <dc:creator>Amy Lynn Sanford</dc:creator>
  <dc:description/>
  <dc:language>en-US</dc:language>
  <cp:lastModifiedBy>joconnor</cp:lastModifiedBy>
  <dcterms:modified xsi:type="dcterms:W3CDTF">2009-10-19T13:21:54Z</dcterms:modified>
  <cp:revision>35</cp:revision>
  <dc:subject/>
  <dc:title>Evolution</dc:title>
</cp:coreProperties>
</file>